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9.wmf" ContentType="image/x-wmf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F5C6-5047-4F22-ACD0-BEF559E8E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AF58-8E63-41B4-AB2D-2F3BDD6F9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94F-3C23-4212-89DC-F9FD441C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CF7-CE7C-4325-B534-6D4DBE12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659-D040-44D0-A65E-975110F9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E3F-93EC-4E65-A524-30674C7F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C64-ADA2-475C-915A-F253CBEB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B676B-C92D-4518-904D-AB97490F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72C53-00AA-4914-8ACD-E9C9F248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FA356-7157-42E8-A30F-47C7C853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A5F21-E014-4FA8-A9F8-57AB442E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2F321-6A96-4680-82FF-15CAAC9D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ED5-CFEF-46D7-86DF-A87AABD6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90932-04FD-4A9A-842C-A06E938E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64D09-844E-4F05-8B74-198BB473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4F0088-0F24-4065-BBFF-E195B359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2B998-D2D4-4378-84C3-2F5E42E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147EE-910A-4805-8F0C-C3408E8A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1AAF0-2456-4D97-95F9-FB1B46CA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084CDD-CA18-4C99-8C81-A68766A4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4C7A00-8B74-435F-ACD1-ED154C63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5699E-F7B2-4660-A48B-8F956972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1BACE-8EA1-4418-9182-67232138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6B3-9D16-4EBD-8712-4078B448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85D4C-BA87-4EEB-B9CC-FD173231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D617D-0AF2-4252-8ED9-95FC1E38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2398D-F192-4E15-9FE2-0004167C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34B10-BDE8-4479-AAA5-FAB4ADDE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AFABF-BA24-4A50-A083-E2B0257C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C560E-2E18-4C27-BB0C-40208DD0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E9A32-B60E-46A5-85D7-4E1B6ED4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ACB19C-B235-43FB-A355-1636DF7A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4F071-0F10-4352-9640-36C6D5D8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5A0-0E2D-4334-B25D-544FC28F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72B-CD72-4F7D-A1A1-49003FD8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9F5-CA16-4F16-A2D4-6B145D99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7D50-0E55-4201-AA3D-24105E34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D66C-A202-4E24-8A17-7959D1F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1108-7D23-488E-8F94-6CB84D9B3A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9D9D-AF6A-4F40-892E-8C134B403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Financial 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CE90-7DAA-4137-8335-697B063ED049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ACE0-BFAC-48B9-A568-1527C68BAF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AE21-92FB-481F-88FF-57121C279731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8033-234D-4585-AA54-877B4B49B8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0506-EDA9-459C-85A7-DC3BC9EF5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Bank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B491-BDDA-41BF-89B3-131085CF2EF2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FFCC-7904-4A0B-A0D1-0D939F9F87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46E3-EBF2-42B9-B3E0-C5744E5B4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covery.gov/" TargetMode="External"/><Relationship Id="rId2" Type="http://schemas.openxmlformats.org/officeDocument/2006/relationships/hyperlink" Target="http://www.govbenefits.gov/" TargetMode="External"/><Relationship Id="rId3" Type="http://schemas.openxmlformats.org/officeDocument/2006/relationships/hyperlink" Target="http://www.makinghomeaffordable.gov/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inancial Recovery title slide with FDIC Money Smart logo and module logo including a person helping someone up a st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1522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nanc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152280" y="167652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ve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2: Develop a Financial Recovery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990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financial recovery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elps you save money, pay your bills, and eliminate or reduce your deb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hould include financial goals and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5" descr="C:\Users\Luke\AppData\Local\Microsoft\Windows\Temporary Internet Files\Content.IE5\632VAGKS\MC900341851[1].jpg"/>
          <p:cNvPicPr/>
          <p:nvPr/>
        </p:nvPicPr>
        <p:blipFill>
          <a:blip r:embed="rId1"/>
          <a:stretch/>
        </p:blipFill>
        <p:spPr>
          <a:xfrm>
            <a:off x="2895480" y="4038480"/>
            <a:ext cx="2729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t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&amp; write down your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8668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ke sure they are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ecific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asurable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tainable/achievable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levant, </a:t>
            </a:r>
            <a:r>
              <a:rPr b="1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me-b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ganize your goals by timefra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te your progress and reevaluate your goals regularl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6" descr="Figure riding an arrow that is going up"/>
          <p:cNvPicPr/>
          <p:nvPr/>
        </p:nvPicPr>
        <p:blipFill>
          <a:blip r:embed="rId1"/>
          <a:stretch/>
        </p:blipFill>
        <p:spPr>
          <a:xfrm>
            <a:off x="7010280" y="4343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My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ne or two main financial go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ist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ny supporting goals to help you achieve these main go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ke sure they are SMART goa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velop a Spending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Following 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elps you know what your income and expenses are every mon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duces the anxiety of not being able to meet your expen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elps you build assets that will improve the quality of life for you and your fam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4" descr="Family (father, mother, son, and daughter) posing for a picture on their lawn"/>
          <p:cNvPicPr/>
          <p:nvPr/>
        </p:nvPicPr>
        <p:blipFill>
          <a:blip r:embed="rId1"/>
          <a:stretch/>
        </p:blipFill>
        <p:spPr>
          <a:xfrm>
            <a:off x="7640640" y="380880"/>
            <a:ext cx="1325520" cy="1219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is time to put your plan in action once you ha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valuated your current financial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stablished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ed a financial recovery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3: Implement Your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ek Assist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tact local, state, and national assistance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heck regardless of income level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fer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recovery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2"/>
              </a:rPr>
              <a:t>www.govbenefits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3"/>
              </a:rPr>
              <a:t>www.makinghomeaffordabl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5" descr="Outstretched hand"/>
          <p:cNvPicPr/>
          <p:nvPr/>
        </p:nvPicPr>
        <p:blipFill>
          <a:blip r:embed="rId4"/>
          <a:stretch/>
        </p:blipFill>
        <p:spPr>
          <a:xfrm>
            <a:off x="7370640" y="255600"/>
            <a:ext cx="17859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build Your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f repairing your own cred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rder a copy of your credit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and correct any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ntact your creditors to explain your sit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gotiate payment plans with your creditors when you have some money to pay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Opt-out of receiving unsolicited offers for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Get a Copy of Your 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93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rder a free credit report from each credit bureau once every 12 months through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Helvetica Neue"/>
                <a:hlinkClick r:id="rId1"/>
              </a:rPr>
              <a:t>www.annualcreditreport.com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5" descr="Annual Credit Report screen shot"/>
          <p:cNvPicPr/>
          <p:nvPr/>
        </p:nvPicPr>
        <p:blipFill>
          <a:blip r:embed="rId2"/>
          <a:stretch/>
        </p:blipFill>
        <p:spPr>
          <a:xfrm>
            <a:off x="1297080" y="2819520"/>
            <a:ext cx="380844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eck for Err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f you think there is an error on your credit repor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ntact the credit reporting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rite a letter disputing the error and keep a copy of the letter for your rec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he credit reporting agencies are required to conduct an investigation within 30 days of receiving your let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efore Contacting Your Credi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termin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much you owe each cr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much you can pay each cr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hen you can realistically pay each cred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prepared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your situation and any efforts you are making to pay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ave a plan for when you realistically can pay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tact Your Credi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9903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ocument the conversation or write a letter to your credi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Stay cal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k about “hardship”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 honest with yourself and the credi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o not accept any deal you cannot fulf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3" descr="Cell phone"/>
          <p:cNvPicPr/>
          <p:nvPr/>
        </p:nvPicPr>
        <p:blipFill>
          <a:blip r:embed="rId1"/>
          <a:stretch/>
        </p:blipFill>
        <p:spPr>
          <a:xfrm>
            <a:off x="3733920" y="4495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ing a Credit Counseling Ag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n agency might be right for you if y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eed help creating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re not disciplined enough to stick to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efer not to negotiate with your creditors or cannot work out an acceptable repayment plan with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re unable to keep track of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ing a Credit Counseling Ag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 credit counseling agency can help y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age your money and deb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Learn about consumer credit, money and debt management, and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4" descr="Man counseling a young guy"/>
          <p:cNvPicPr/>
          <p:nvPr/>
        </p:nvPicPr>
        <p:blipFill>
          <a:blip r:embed="rId1"/>
          <a:stretch/>
        </p:blipFill>
        <p:spPr>
          <a:xfrm>
            <a:off x="3200400" y="4343400"/>
            <a:ext cx="2643120" cy="176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redit Repair Sc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o one can remove accurate information from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can take years to repair bad credit legitimat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No one can create a new identity for yo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egitimate companies provide a service before requesting pay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 can order your credit report yoursel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4: Review and Adjust Your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 reviewing yo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pending plan after implementing it and periodically thereafter (e.g., every 6 month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Financial goals and spending priorities every 12 months, or after any life chang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redit report at least every 12 months and before applying for a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just Your Financial Recovery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0666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en your income and/or expenses 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en you accomplish, adjust, or create a new financial go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en you transition to a new life s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efore something unexpected happe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5" descr="Female using a computer"/>
          <p:cNvPicPr/>
          <p:nvPr/>
        </p:nvPicPr>
        <p:blipFill>
          <a:blip r:embed="rId1"/>
          <a:stretch/>
        </p:blipFill>
        <p:spPr>
          <a:xfrm>
            <a:off x="7086600" y="2438280"/>
            <a:ext cx="1600200" cy="239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ew and Adjust Your Insurance Cover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ew your coverage at least once a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much and what type of insurance you need depends on your circum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Know what natural disasters are covered by your standard homeowners insurance policy and make sure you are adequately 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5" descr="Flooded area around a home"/>
          <p:cNvPicPr/>
          <p:nvPr/>
        </p:nvPicPr>
        <p:blipFill>
          <a:blip r:embed="rId1"/>
          <a:stretch/>
        </p:blipFill>
        <p:spPr>
          <a:xfrm>
            <a:off x="3306600" y="4448160"/>
            <a:ext cx="2408400" cy="1604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iew and Rebuild Your Inves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view your investment portfoli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t least once a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hen you experience any major lif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When the market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djust your allocations, consider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How soon you need the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Your risk toler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4" descr="Stock market data"/>
          <p:cNvPicPr/>
          <p:nvPr/>
        </p:nvPicPr>
        <p:blipFill>
          <a:blip r:embed="rId1"/>
          <a:stretch/>
        </p:blipFill>
        <p:spPr>
          <a:xfrm>
            <a:off x="7467480" y="304920"/>
            <a:ext cx="1524240" cy="129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build Your Sav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990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ve mone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o pay for extra expenses without disrupting or derailing you from your financial recovery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So you can pay for extra expenses and avoid paying the interest and fees you would be charged when using a credit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4" descr="Coin being dropped into a piggy bank"/>
          <p:cNvPicPr/>
          <p:nvPr/>
        </p:nvPicPr>
        <p:blipFill>
          <a:blip r:embed="rId1"/>
          <a:stretch/>
        </p:blipFill>
        <p:spPr>
          <a:xfrm>
            <a:off x="7620120" y="457200"/>
            <a:ext cx="12492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vent Future Setbac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14264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are some actions you can take to stay on that road to financial recover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build your sav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Continue to apply what you have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Keep moving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e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k for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ssess your current financial situ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ways to increase income and decrease and prioritize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velop a financial recovery pl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ing, implementing, and adjusting a financial recovery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ing ways to increase income and decreas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ioritiz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veloping financial goals and a spending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building your credit and how to avoid credit repair sc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steps to successfully implement a financial recovery pl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Recognize how to guard against credit repair sc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dentify timeframes to review and adjust your financial recovery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C:\Documents and Settings\Karissa\My Documents\IE\FDIC\Icons\Icons\learning_objectives.jpg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financial recover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s to Financial Reco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914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te Your Current Financial Situ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velop a Financial Recovery Pla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mplement Your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Evaluate and Adjust Your Plan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Notebook, calculator, and pencil"/>
          <p:cNvPicPr/>
          <p:nvPr/>
        </p:nvPicPr>
        <p:blipFill>
          <a:blip r:embed="rId1"/>
          <a:stretch/>
        </p:blipFill>
        <p:spPr>
          <a:xfrm>
            <a:off x="2865600" y="3548160"/>
            <a:ext cx="262080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1: Evaluate Your Current Financial Situ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4604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sess your current financial situ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amine your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48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rack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Check register"/>
          <p:cNvPicPr/>
          <p:nvPr/>
        </p:nvPicPr>
        <p:blipFill>
          <a:blip r:embed="rId1"/>
          <a:stretch/>
        </p:blipFill>
        <p:spPr>
          <a:xfrm>
            <a:off x="3124080" y="3581280"/>
            <a:ext cx="251460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Monthly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eview the Monthly Income and Expense Worksh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questions provi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nthly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onsider ways you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crease your inco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crease your expen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ioritize your expe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y basic necessities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y high-priority expenses n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ay remaining expenses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6" descr="Family (father, mother, and three girls) posing for a picture on their couch"/>
          <p:cNvPicPr/>
          <p:nvPr/>
        </p:nvPicPr>
        <p:blipFill>
          <a:blip r:embed="rId1"/>
          <a:stretch/>
        </p:blipFill>
        <p:spPr>
          <a:xfrm>
            <a:off x="5905440" y="1676520"/>
            <a:ext cx="26290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48:58Z</dcterms:modified>
  <cp:revision>6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